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81DC7-B0D6-4CD2-923B-037FDA312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62C3A-8114-4C39-A2C6-BF5320EC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855BE-3DA2-4B0D-9242-FE97BBC81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80162-9A85-4AE8-B6A1-5B91E4CB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C3E77-9EAC-4DA6-8AB7-436139DF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65935-E29F-42B2-9220-152988CE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846DD-7CAF-4DFA-9FE8-359A994C3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A23C-9CDD-41B7-BD27-1E8A2ABF9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062E9-EADC-4844-8937-644CF60D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B367F-1F22-464E-A7F4-BF44D661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B7CB-A415-4405-8C08-D72D78EF9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3BEC4-8871-4C61-A637-B9351488A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9F39-7445-4129-BD93-278ED10EA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Julius Caesar</a:t>
            </a:r>
            <a:r>
              <a:rPr b="0" lang="en-US" sz="2800" spc="-1" strike="noStrike">
                <a:solidFill>
                  <a:srgbClr val="333399"/>
                </a:solidFill>
                <a:latin typeface="Arial"/>
              </a:rPr>
              <a:t> – a history play </a:t>
            </a:r>
            <a:endParaRPr b="0" lang="en-US" sz="2800" spc="-1" strike="noStrike">
              <a:solidFill>
                <a:srgbClr val="000000"/>
              </a:solidFill>
              <a:latin typeface="Arial"/>
            </a:endParaRPr>
          </a:p>
        </p:txBody>
      </p:sp>
      <p:sp>
        <p:nvSpPr>
          <p:cNvPr id="42" name="PlaceHolder 2"/>
          <p:cNvSpPr>
            <a:spLocks noGrp="1"/>
          </p:cNvSpPr>
          <p:nvPr>
            <p:ph type="subTitle"/>
          </p:nvPr>
        </p:nvSpPr>
        <p:spPr>
          <a:xfrm>
            <a:off x="0" y="1142640"/>
            <a:ext cx="6400800" cy="3886200"/>
          </a:xfrm>
          <a:prstGeom prst="rect">
            <a:avLst/>
          </a:prstGeom>
          <a:noFill/>
          <a:ln w="0">
            <a:noFill/>
          </a:ln>
        </p:spPr>
        <p:txBody>
          <a:bodyPr anchor="t">
            <a:noAutofit/>
          </a:bodyPr>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llows the final days of Roman general, ruler, and almost king, Julius Caesar</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is death</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ftermath of his death</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establishment of Roman Empire</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r, power and betrayal converge</a:t>
            </a:r>
            <a:endParaRPr b="0" lang="en-US" sz="2400" spc="-1" strike="noStrike">
              <a:solidFill>
                <a:srgbClr val="000000"/>
              </a:solidFill>
              <a:latin typeface="Arial"/>
            </a:endParaRPr>
          </a:p>
        </p:txBody>
      </p:sp>
      <p:pic>
        <p:nvPicPr>
          <p:cNvPr id="43" name="Picture 5" descr="http://bigmentaldisease.com/wp-content/uploads/2009/06/juliuscaesar.jpg"/>
          <p:cNvPicPr/>
          <p:nvPr/>
        </p:nvPicPr>
        <p:blipFill>
          <a:blip r:embed="rId1"/>
          <a:stretch/>
        </p:blipFill>
        <p:spPr>
          <a:xfrm>
            <a:off x="5791320" y="2819520"/>
            <a:ext cx="2895480" cy="38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History</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y is based off of the actual life and death of this m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y opens as he is returning to Rome after a battle that he has wo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fore this, Rome was ruled by Pompey the Great and under him Rome’s lands expanded, and the republic was about to become an empire where only one man had all of the power – monarchy (could it also be a dictatorship?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man Republic governed by – Triumvirate – 3 man ruling</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3 were: Crassus, Pompey and Caesar. Crassus died in battle and the remaining two fought for sole power. Pompey hid out in Egypt but was later kill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ower</a:t>
            </a:r>
            <a:endParaRPr b="0" lang="en-US" sz="2400" spc="-1" strike="noStrike">
              <a:solidFill>
                <a:srgbClr val="000000"/>
              </a:solidFill>
              <a:latin typeface="Arial"/>
            </a:endParaRPr>
          </a:p>
        </p:txBody>
      </p:sp>
      <p:sp>
        <p:nvSpPr>
          <p:cNvPr id="47"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fortunately for Caesar, the senators had been strong supporters of Pompey.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se men (senators) finally conquer Caesar and murder him.</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Roman population is very fickle and almost sides with the conspirators, but are convinced through Antony’s oration and use of verbal irony that these conspirators are no more than cold blooded murderer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ace and order are gone from Rome for a long time after this. Some support and fight with the conspirators while others side with Antony and his army. It is a long, bloody, civil wa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urage</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te &amp; Free Will</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trayal</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wer</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de</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es &amp; Deceit </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ipulation</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crifice</a:t>
            </a:r>
            <a:endParaRPr b="0" lang="en-US" sz="2800" spc="-1" strike="noStrike">
              <a:solidFill>
                <a:srgbClr val="000000"/>
              </a:solidFill>
              <a:latin typeface="Arial"/>
            </a:endParaRPr>
          </a:p>
          <a:p>
            <a:pPr marL="332640" indent="-3326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nciples</a:t>
            </a:r>
            <a:endParaRPr b="0" lang="en-US" sz="2800" spc="-1" strike="noStrike">
              <a:solidFill>
                <a:srgbClr val="000000"/>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03:04Z</dcterms:created>
  <dc:creator>generic</dc:creator>
  <dc:description/>
  <dc:language>en-US</dc:language>
  <cp:lastModifiedBy>Meg</cp:lastModifiedBy>
  <dcterms:modified xsi:type="dcterms:W3CDTF">2009-09-24T00:14:13Z</dcterms:modified>
  <cp:revision>5</cp:revision>
  <dc:subject/>
  <dc:title>Julius Caesar – a history play </dc:title>
</cp:coreProperties>
</file>